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B44BDF-450B-4633-9046-3F38D1E97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B7176B-E9F3-4C3F-8012-C25BF5788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0B57C6-DABA-4096-86BD-CB8BBC4CE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C12D93-72E9-4B94-A8C7-7F476F49AC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8DB3E-0710-4F3C-927E-DC65116A1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D0AE8-F015-46D8-B81D-B70DC70A4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188BB-2F93-4628-9C12-F8E36D321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E3B0D-8D41-49C1-AE39-684C7A8B3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E5DF3-122A-494B-A18A-5B5193FD7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B18FE-0854-419E-AFFF-2E344EADE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1B2B4-046D-45ED-B3B9-2B56ECE13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396FBD-A64B-462D-8EC5-905655AAB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C7CE8-35CF-448C-8765-9265E0090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1CC7C-68E6-4BA0-9E7F-E1E443D59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7200C-1FBE-41A3-BA0E-767DF491B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59473-9909-43F2-A1A5-45C3282B9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99E76-4519-4B51-87A9-9A72EBC45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05A8C5-DAEC-4D01-A786-5784C2288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C5B900-9B0E-491B-B2AB-770582B58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37726B-D250-4DC2-9823-EECF4C14F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FBE5AA-7784-4E9A-BB67-7BE9F0ECD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8D6D1-C22A-4D71-B7B9-474C80365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5E1E1-68F6-420D-946E-F64FB2A33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BC9B3-DA00-47CC-8D77-F0F46A6C7C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A374-E87C-40F6-BB66-A3EDC94BE6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F76A-A5E4-45A0-B63D-4B616CE70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rocess Management and Improvement – 1 - CMM</a:t>
            </a:r>
            <a:endParaRPr b="0" lang="en-US" sz="3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9</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F5FC9D9-4B55-4775-A05A-F93E18F36E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for Process Control - 3</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ther or not the process is under control (is stable with respect to the inherent variability of measured perform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erformance variations that are caused by process anomalies (assignable cau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4937E-5647-45F9-8939-495321253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s for Process Control - 4</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he sources of assignable causes so as to stabilize the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C16DCC-773B-487B-A397-4174039A0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process is under control, sustaining activities must be undertaken to forestall the effects of entropy. Without sustaining activities, processes can easily fall victim to the forces of ad hoc change or disuse and deteriorate to out-of-control states</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quires reinforcing the use of defined processes through continuing management oversight, measurement, benchmarking, and process assess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7B4971-419F-4AEB-9A76-2350927BDE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haracteristics of existing processes and the factors that affect process capability</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justify, and implement actions that will modify the processes so as to better meet business need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impacts and benefits gained, and compare these to the costs of changes made to the processes</a:t>
            </a:r>
            <a:endParaRPr b="0" lang="en-US" sz="2800" spc="-1" strike="noStrike">
              <a:solidFill>
                <a:srgbClr val="000000"/>
              </a:solidFill>
              <a:latin typeface="Arial"/>
            </a:endParaRPr>
          </a:p>
        </p:txBody>
      </p:sp>
      <p:sp>
        <p:nvSpPr>
          <p:cNvPr id="14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Process Improvement - 1</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ECC9D628-107E-41D5-9686-53B8613556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Process Improvement - 2</a:t>
            </a:r>
            <a:endParaRPr b="0" lang="en-US" sz="36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mprovement should be done to help the business – not for its own sak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14263C-15A0-4152-9DB7-304B1FBA02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Process Issues</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 your business goals or objective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critical processe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objectives for each critical proces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potential problem areas associated with the processe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the list of potential problems into common areas or topic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71D18B-5861-4F78-809F-28F994046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cess Issues</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du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delive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co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1EAE50-FBB1-418C-9B50-473E4DC5DF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Before Process Improvements - 1 </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problem, discuss why the change is necessary, and spell out the reasons in terms that are meaningfu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omfortable environment where people will feel free to openly voice their concerns and their opin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44595E-DED6-4777-AD1F-CD6C5566E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Before Process Improvements - 2</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details of the change, elaborate on the return on investment, how it will effect the staff, and when the change will take plac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the change will be implemented and measur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individuals who are open-minded to accept the change more easi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1274C-3BFB-47D3-B366-AF78208D2B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Before Process Improvements - 3</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 employees to help them acquire needed skill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team work at all times and at all level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each concern with care so there is no fear left and value each opinion</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s based on factual data rather than opinions or gut feeling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09A614-C54A-4957-B4F1-497F05194D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Management Responsibilitie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the proces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variability is stable.  Wh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the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0C489C-3658-465E-91E0-A85A3E3CE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Before Process Improvements - 4</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 decisions to reinforce the chan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236CC-0819-458B-8305-A202C4BFC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ven Steps of the Process Improvement </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data</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finding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ideal proces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ideal proces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progres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 the proces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671714-FF7A-45A6-B954-CD9F1E7D3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 Tips on SPI - 1</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actively identify and seek support of process-improvement champions and sponsor</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 management awareness and commitment with a strong business case for each desired process improvement</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n infrastructure strong enough to achieve and hold software core compet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6EDB5E-66A2-4661-9FF6-EC0D23315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 Tips on SPI - 2</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extent of adoption of each desired process improvement until it is effectively, efficiently, and across all appropriate parts of the organiz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6BC5E-B37D-4612-BB20-A84D291ED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Improvement Program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bility Maturity Model (CM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M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 900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ck/I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Quality Management (TQ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4CD67A-955F-4D04-B1E0-7FF60D4FE5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Process Model?</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model is a structured collection of practices that describe the characteristics of effective proces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 included are those proven by experience to be effecti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D92BF-6AD8-40AA-9532-C8970D7B6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a Process Model Used?</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model is used</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lp set process improvement objectives and prioriti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lp ensure stable, capable, and mature process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guide for improvement of project and organizational processes</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n appraisal method to diagnose the state of an organization’s current practi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5B62A6-960F-48A0-A4CA-EFEF74EB89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a Process Model Important?</a:t>
            </a:r>
            <a:endParaRPr b="0" lang="en-US" sz="40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model provide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ce to start improving</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a community’s prior experience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on language and a shared vision</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mework for prioritizing action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define what improvement means for an organiz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408A62-D191-4A5B-9E0B-BDB7DBFC4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mprovement should be done to help the business – not for its own sak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od we trust, all others bring data</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Edwards Dem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0F7EFF-2320-42E0-94B1-D01B135A55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pability Maturity Model</a:t>
            </a:r>
            <a:endParaRPr b="0" lang="en-US" sz="5000" spc="-1" strike="noStrike">
              <a:solidFill>
                <a:srgbClr val="ffffff"/>
              </a:solidFill>
              <a:latin typeface="Arial"/>
            </a:endParaRPr>
          </a:p>
        </p:txBody>
      </p:sp>
      <p:sp>
        <p:nvSpPr>
          <p:cNvPr id="178"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E499217-7839-4129-8D8D-BB826D6F9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Management Responsibilities</a:t>
            </a:r>
            <a:endParaRPr b="0" lang="en-US" sz="4400" spc="-1" strike="noStrike">
              <a:solidFill>
                <a:srgbClr val="000000"/>
              </a:solidFill>
              <a:latin typeface="Arial"/>
            </a:endParaRPr>
          </a:p>
        </p:txBody>
      </p:sp>
      <p:sp>
        <p:nvSpPr>
          <p:cNvPr id="111" name=""/>
          <p:cNvSpPr/>
          <p:nvPr/>
        </p:nvSpPr>
        <p:spPr>
          <a:xfrm>
            <a:off x="3809880" y="2286000"/>
            <a:ext cx="19051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47920" y="3657600"/>
            <a:ext cx="19047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9880" y="3657600"/>
            <a:ext cx="19051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3657600"/>
            <a:ext cx="19051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9880" y="5257800"/>
            <a:ext cx="1752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71500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724280" y="4495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8" name=""/>
          <p:cNvCxnSpPr>
            <a:stCxn id="112" idx="2"/>
            <a:endCxn id="115" idx="2"/>
          </p:cNvCxnSpPr>
          <p:nvPr/>
        </p:nvCxnSpPr>
        <p:spPr>
          <a:xfrm flipH="1" rot="16200000">
            <a:off x="2494440" y="4400280"/>
            <a:ext cx="1220040" cy="1410120"/>
          </a:xfrm>
          <a:prstGeom prst="curvedConnector2">
            <a:avLst/>
          </a:prstGeom>
          <a:ln w="9360">
            <a:solidFill>
              <a:srgbClr val="000000"/>
            </a:solidFill>
            <a:miter/>
            <a:tailEnd len="med" type="triangle" w="med"/>
          </a:ln>
        </p:spPr>
      </p:cxnSp>
      <p:cxnSp>
        <p:nvCxnSpPr>
          <p:cNvPr id="119" name=""/>
          <p:cNvCxnSpPr>
            <a:stCxn id="111" idx="1"/>
            <a:endCxn id="112" idx="0"/>
          </p:cNvCxnSpPr>
          <p:nvPr/>
        </p:nvCxnSpPr>
        <p:spPr>
          <a:xfrm flipV="1" rot="10800000">
            <a:off x="2399760" y="2704680"/>
            <a:ext cx="1410120" cy="953280"/>
          </a:xfrm>
          <a:prstGeom prst="curvedConnector2">
            <a:avLst/>
          </a:prstGeom>
          <a:ln w="9360">
            <a:solidFill>
              <a:srgbClr val="000000"/>
            </a:solidFill>
            <a:miter/>
            <a:tailEnd len="med" type="triangle" w="med"/>
          </a:ln>
        </p:spPr>
      </p:cxnSp>
      <p:cxnSp>
        <p:nvCxnSpPr>
          <p:cNvPr id="120" name=""/>
          <p:cNvCxnSpPr>
            <a:stCxn id="115" idx="6"/>
            <a:endCxn id="114" idx="2"/>
          </p:cNvCxnSpPr>
          <p:nvPr/>
        </p:nvCxnSpPr>
        <p:spPr>
          <a:xfrm flipV="1">
            <a:off x="5562360" y="4494960"/>
            <a:ext cx="1562760" cy="1220040"/>
          </a:xfrm>
          <a:prstGeom prst="curvedConnector2">
            <a:avLst/>
          </a:prstGeom>
          <a:ln w="9360">
            <a:solidFill>
              <a:srgbClr val="000000"/>
            </a:solidFill>
            <a:miter/>
            <a:tailEnd len="med" type="triangle" w="med"/>
          </a:ln>
        </p:spPr>
      </p:cxnSp>
      <p:cxnSp>
        <p:nvCxnSpPr>
          <p:cNvPr id="121" name=""/>
          <p:cNvCxnSpPr>
            <a:stCxn id="114" idx="0"/>
            <a:endCxn id="111" idx="3"/>
          </p:cNvCxnSpPr>
          <p:nvPr/>
        </p:nvCxnSpPr>
        <p:spPr>
          <a:xfrm flipV="1" rot="16200000">
            <a:off x="5943240" y="2475720"/>
            <a:ext cx="953280" cy="1410480"/>
          </a:xfrm>
          <a:prstGeom prst="curvedConnector2">
            <a:avLst/>
          </a:prstGeom>
          <a:ln w="9360">
            <a:solidFill>
              <a:srgbClr val="000000"/>
            </a:solidFill>
            <a:miter/>
            <a:tailEnd len="med" type="triangle" w="med"/>
          </a:ln>
        </p:spPr>
      </p:cxnSp>
      <p:sp>
        <p:nvSpPr>
          <p:cNvPr id="122" name=""/>
          <p:cNvSpPr/>
          <p:nvPr/>
        </p:nvSpPr>
        <p:spPr>
          <a:xfrm>
            <a:off x="4191480" y="228600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3" name=""/>
          <p:cNvSpPr/>
          <p:nvPr/>
        </p:nvSpPr>
        <p:spPr>
          <a:xfrm>
            <a:off x="1829880" y="36576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4" name=""/>
          <p:cNvSpPr/>
          <p:nvPr/>
        </p:nvSpPr>
        <p:spPr>
          <a:xfrm>
            <a:off x="4170240" y="5334120"/>
            <a:ext cx="1163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5" name=""/>
          <p:cNvSpPr/>
          <p:nvPr/>
        </p:nvSpPr>
        <p:spPr>
          <a:xfrm>
            <a:off x="4191480" y="36576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6" name=""/>
          <p:cNvSpPr/>
          <p:nvPr/>
        </p:nvSpPr>
        <p:spPr>
          <a:xfrm>
            <a:off x="6539400" y="3657600"/>
            <a:ext cx="1232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8F5417-E1F3-40B7-B61A-88ADC8F182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State-of-the-Art in 1984 - 1</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half of the large software systems were late in excess of 12 month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costs of large software systems was more than twice the initial budget</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ncellation rate of large software systems exceeded 35%</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lity and reliability levels of delivered software of all sizes was po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977BFF-E309-4179-A0CD-0DB06BE48E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State-of-the-Art in 1984 - 2</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ersonnel were increasing by more than 10% per ye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was the largest known business expense which could not be manag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0EC21-C522-4A15-997B-7E6F1B3F8A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Engineering Institute</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earch facility, located in University of Carnegie Mellon, Pennsylvan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ily funded by US DoD to explore software issues, and especially topics associated with defense contra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DoD is the largest producer and consumer of software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D5B39-910D-4F47-8BB7-72476B4B21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bility Maturity Model</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I developed a Capability Maturity Model (CMM) for software systems and an assessment mechanism</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M has five maturity models</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ble</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d</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12238F-A7D7-4B27-A5FF-C28F3038B4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45684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Five Levels of Software Process Maturity</a:t>
            </a:r>
            <a:endParaRPr b="0" lang="en-US" sz="3600" spc="-1" strike="noStrike">
              <a:solidFill>
                <a:srgbClr val="000000"/>
              </a:solidFill>
              <a:latin typeface="Arial"/>
            </a:endParaRPr>
          </a:p>
        </p:txBody>
      </p:sp>
      <p:sp>
        <p:nvSpPr>
          <p:cNvPr id="188" name=""/>
          <p:cNvSpPr/>
          <p:nvPr/>
        </p:nvSpPr>
        <p:spPr>
          <a:xfrm>
            <a:off x="463680" y="5416560"/>
            <a:ext cx="2425680" cy="901800"/>
          </a:xfrm>
          <a:prstGeom prst="roundRect">
            <a:avLst>
              <a:gd name="adj" fmla="val 12495"/>
            </a:avLst>
          </a:prstGeom>
          <a:no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 y="15238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758960" y="4502160"/>
            <a:ext cx="2425680" cy="901800"/>
          </a:xfrm>
          <a:prstGeom prst="roundRect">
            <a:avLst>
              <a:gd name="adj" fmla="val 12495"/>
            </a:avLst>
          </a:prstGeom>
          <a:no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 y="18288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06560" y="44974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peatable</a:t>
            </a:r>
            <a:endParaRPr b="0" lang="en-US" sz="1800" spc="-1" strike="noStrike">
              <a:solidFill>
                <a:srgbClr val="000000"/>
              </a:solidFill>
              <a:latin typeface="Times New Roman"/>
            </a:endParaRPr>
          </a:p>
        </p:txBody>
      </p:sp>
      <p:sp>
        <p:nvSpPr>
          <p:cNvPr id="193" name=""/>
          <p:cNvSpPr/>
          <p:nvPr/>
        </p:nvSpPr>
        <p:spPr>
          <a:xfrm>
            <a:off x="3359160" y="3587760"/>
            <a:ext cx="2425680" cy="901800"/>
          </a:xfrm>
          <a:prstGeom prst="roundRect">
            <a:avLst>
              <a:gd name="adj" fmla="val 12495"/>
            </a:avLst>
          </a:prstGeom>
          <a:no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035680" y="2673360"/>
            <a:ext cx="2120760" cy="901800"/>
          </a:xfrm>
          <a:prstGeom prst="roundRect">
            <a:avLst>
              <a:gd name="adj" fmla="val 12495"/>
            </a:avLst>
          </a:prstGeom>
          <a:no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066680" y="22860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39880" y="5411880"/>
            <a:ext cx="1216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itial</a:t>
            </a:r>
            <a:endParaRPr b="0" lang="en-US" sz="1800" spc="-1" strike="noStrike">
              <a:solidFill>
                <a:srgbClr val="000000"/>
              </a:solidFill>
              <a:latin typeface="Times New Roman"/>
            </a:endParaRPr>
          </a:p>
        </p:txBody>
      </p:sp>
      <p:sp>
        <p:nvSpPr>
          <p:cNvPr id="197" name=""/>
          <p:cNvSpPr/>
          <p:nvPr/>
        </p:nvSpPr>
        <p:spPr>
          <a:xfrm>
            <a:off x="3735360" y="35830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fined</a:t>
            </a:r>
            <a:endParaRPr b="0" lang="en-US" sz="1800" spc="-1" strike="noStrike">
              <a:solidFill>
                <a:srgbClr val="000000"/>
              </a:solidFill>
              <a:latin typeface="Times New Roman"/>
            </a:endParaRPr>
          </a:p>
        </p:txBody>
      </p:sp>
      <p:sp>
        <p:nvSpPr>
          <p:cNvPr id="198" name=""/>
          <p:cNvSpPr/>
          <p:nvPr/>
        </p:nvSpPr>
        <p:spPr>
          <a:xfrm>
            <a:off x="5335560" y="26686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anaged</a:t>
            </a:r>
            <a:endParaRPr b="0" lang="en-US" sz="1800" spc="-1" strike="noStrike">
              <a:solidFill>
                <a:srgbClr val="000000"/>
              </a:solidFill>
              <a:latin typeface="Times New Roman"/>
            </a:endParaRPr>
          </a:p>
        </p:txBody>
      </p:sp>
      <p:sp>
        <p:nvSpPr>
          <p:cNvPr id="199" name=""/>
          <p:cNvSpPr/>
          <p:nvPr/>
        </p:nvSpPr>
        <p:spPr>
          <a:xfrm>
            <a:off x="230040" y="4573440"/>
            <a:ext cx="1825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d Process</a:t>
            </a:r>
            <a:endParaRPr b="0" lang="en-US" sz="1800" spc="-1" strike="noStrike">
              <a:solidFill>
                <a:srgbClr val="000000"/>
              </a:solidFill>
              <a:latin typeface="Times New Roman"/>
            </a:endParaRPr>
          </a:p>
        </p:txBody>
      </p:sp>
      <p:sp>
        <p:nvSpPr>
          <p:cNvPr id="200" name=""/>
          <p:cNvSpPr/>
          <p:nvPr/>
        </p:nvSpPr>
        <p:spPr>
          <a:xfrm>
            <a:off x="1447920" y="3429000"/>
            <a:ext cx="1825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nsistent Process</a:t>
            </a:r>
            <a:endParaRPr b="0" lang="en-US" sz="1800" spc="-1" strike="noStrike">
              <a:solidFill>
                <a:srgbClr val="000000"/>
              </a:solidFill>
              <a:latin typeface="Times New Roman"/>
            </a:endParaRPr>
          </a:p>
        </p:txBody>
      </p:sp>
      <p:sp>
        <p:nvSpPr>
          <p:cNvPr id="201" name=""/>
          <p:cNvSpPr/>
          <p:nvPr/>
        </p:nvSpPr>
        <p:spPr>
          <a:xfrm>
            <a:off x="3430440" y="2820960"/>
            <a:ext cx="1825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Process</a:t>
            </a:r>
            <a:endParaRPr b="0" lang="en-US" sz="1800" spc="-1" strike="noStrike">
              <a:solidFill>
                <a:srgbClr val="000000"/>
              </a:solidFill>
              <a:latin typeface="Times New Roman"/>
            </a:endParaRPr>
          </a:p>
        </p:txBody>
      </p:sp>
      <p:sp>
        <p:nvSpPr>
          <p:cNvPr id="202" name=""/>
          <p:cNvSpPr/>
          <p:nvPr/>
        </p:nvSpPr>
        <p:spPr>
          <a:xfrm>
            <a:off x="4572000" y="1676520"/>
            <a:ext cx="1825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ly Improving Process</a:t>
            </a:r>
            <a:endParaRPr b="0" lang="en-US" sz="1800" spc="-1" strike="noStrike">
              <a:solidFill>
                <a:srgbClr val="000000"/>
              </a:solidFill>
              <a:latin typeface="Times New Roman"/>
            </a:endParaRPr>
          </a:p>
        </p:txBody>
      </p:sp>
      <p:sp>
        <p:nvSpPr>
          <p:cNvPr id="203" name=""/>
          <p:cNvSpPr/>
          <p:nvPr/>
        </p:nvSpPr>
        <p:spPr>
          <a:xfrm>
            <a:off x="1144440" y="5030640"/>
            <a:ext cx="121932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68680" y="4040280"/>
            <a:ext cx="121860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421160" y="3125880"/>
            <a:ext cx="121860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945040" y="2211480"/>
            <a:ext cx="1219320" cy="91404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11280" y="5716440"/>
            <a:ext cx="21304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and poorly controlled</a:t>
            </a:r>
            <a:endParaRPr b="0" lang="en-US" sz="1800" spc="-1" strike="noStrike">
              <a:solidFill>
                <a:srgbClr val="000000"/>
              </a:solidFill>
              <a:latin typeface="Times New Roman"/>
            </a:endParaRPr>
          </a:p>
        </p:txBody>
      </p:sp>
      <p:sp>
        <p:nvSpPr>
          <p:cNvPr id="208" name=""/>
          <p:cNvSpPr/>
          <p:nvPr/>
        </p:nvSpPr>
        <p:spPr>
          <a:xfrm>
            <a:off x="1754280" y="4802040"/>
            <a:ext cx="2816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peat previously mastered tasks</a:t>
            </a:r>
            <a:endParaRPr b="0" lang="en-US" sz="1800" spc="-1" strike="noStrike">
              <a:solidFill>
                <a:srgbClr val="000000"/>
              </a:solidFill>
              <a:latin typeface="Times New Roman"/>
            </a:endParaRPr>
          </a:p>
        </p:txBody>
      </p:sp>
      <p:sp>
        <p:nvSpPr>
          <p:cNvPr id="209" name=""/>
          <p:cNvSpPr/>
          <p:nvPr/>
        </p:nvSpPr>
        <p:spPr>
          <a:xfrm>
            <a:off x="3354480" y="3887640"/>
            <a:ext cx="2816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haracterized, fairly well understood</a:t>
            </a:r>
            <a:endParaRPr b="0" lang="en-US" sz="1800" spc="-1" strike="noStrike">
              <a:solidFill>
                <a:srgbClr val="000000"/>
              </a:solidFill>
              <a:latin typeface="Times New Roman"/>
            </a:endParaRPr>
          </a:p>
        </p:txBody>
      </p:sp>
      <p:sp>
        <p:nvSpPr>
          <p:cNvPr id="210" name=""/>
          <p:cNvSpPr/>
          <p:nvPr/>
        </p:nvSpPr>
        <p:spPr>
          <a:xfrm>
            <a:off x="5030640" y="2973240"/>
            <a:ext cx="2359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easured and controlled</a:t>
            </a:r>
            <a:endParaRPr b="0" lang="en-US" sz="1800" spc="-1" strike="noStrike">
              <a:solidFill>
                <a:srgbClr val="000000"/>
              </a:solidFill>
              <a:latin typeface="Times New Roman"/>
            </a:endParaRPr>
          </a:p>
        </p:txBody>
      </p:sp>
      <p:sp>
        <p:nvSpPr>
          <p:cNvPr id="211" name=""/>
          <p:cNvSpPr/>
          <p:nvPr/>
        </p:nvSpPr>
        <p:spPr>
          <a:xfrm>
            <a:off x="6635880" y="1682640"/>
            <a:ext cx="2120760" cy="978120"/>
          </a:xfrm>
          <a:prstGeom prst="roundRect">
            <a:avLst>
              <a:gd name="adj" fmla="val 12495"/>
            </a:avLst>
          </a:prstGeom>
          <a:no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707160" y="1982880"/>
            <a:ext cx="2054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rocess improvement</a:t>
            </a:r>
            <a:endParaRPr b="0" lang="en-US" sz="1800" spc="-1" strike="noStrike">
              <a:solidFill>
                <a:srgbClr val="000000"/>
              </a:solidFill>
              <a:latin typeface="Times New Roman"/>
            </a:endParaRPr>
          </a:p>
        </p:txBody>
      </p:sp>
      <p:sp>
        <p:nvSpPr>
          <p:cNvPr id="213" name=""/>
          <p:cNvSpPr/>
          <p:nvPr/>
        </p:nvSpPr>
        <p:spPr>
          <a:xfrm>
            <a:off x="6935760" y="1677960"/>
            <a:ext cx="1749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Optimizing</a:t>
            </a:r>
            <a:endParaRPr b="0" lang="en-US" sz="1800" spc="-1" strike="noStrike">
              <a:solidFill>
                <a:srgbClr val="000000"/>
              </a:solidFill>
              <a:latin typeface="Times New Roman"/>
            </a:endParaRPr>
          </a:p>
        </p:txBody>
      </p:sp>
      <p:sp>
        <p:nvSpPr>
          <p:cNvPr id="214" name=""/>
          <p:cNvSpPr/>
          <p:nvPr/>
        </p:nvSpPr>
        <p:spPr>
          <a:xfrm>
            <a:off x="3125880" y="5564160"/>
            <a:ext cx="1825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a:t>
            </a:r>
            <a:endParaRPr b="0" lang="en-US" sz="1800" spc="-1" strike="noStrike">
              <a:solidFill>
                <a:srgbClr val="000000"/>
              </a:solidFill>
              <a:latin typeface="Times New Roman"/>
            </a:endParaRPr>
          </a:p>
        </p:txBody>
      </p:sp>
      <p:sp>
        <p:nvSpPr>
          <p:cNvPr id="215" name=""/>
          <p:cNvSpPr/>
          <p:nvPr/>
        </p:nvSpPr>
        <p:spPr>
          <a:xfrm>
            <a:off x="4421160" y="4649760"/>
            <a:ext cx="1825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Engineering Process</a:t>
            </a:r>
            <a:endParaRPr b="0" lang="en-US" sz="1800" spc="-1" strike="noStrike">
              <a:solidFill>
                <a:srgbClr val="000000"/>
              </a:solidFill>
              <a:latin typeface="Times New Roman"/>
            </a:endParaRPr>
          </a:p>
        </p:txBody>
      </p:sp>
      <p:sp>
        <p:nvSpPr>
          <p:cNvPr id="216" name=""/>
          <p:cNvSpPr/>
          <p:nvPr/>
        </p:nvSpPr>
        <p:spPr>
          <a:xfrm>
            <a:off x="6021360" y="3735360"/>
            <a:ext cx="1825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nd Process Quality</a:t>
            </a:r>
            <a:endParaRPr b="0" lang="en-US" sz="1800" spc="-1" strike="noStrike">
              <a:solidFill>
                <a:srgbClr val="000000"/>
              </a:solidFill>
              <a:latin typeface="Times New Roman"/>
            </a:endParaRPr>
          </a:p>
        </p:txBody>
      </p:sp>
      <p:sp>
        <p:nvSpPr>
          <p:cNvPr id="217" name=""/>
          <p:cNvSpPr/>
          <p:nvPr/>
        </p:nvSpPr>
        <p:spPr>
          <a:xfrm>
            <a:off x="7392960" y="2820960"/>
            <a:ext cx="1444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Chang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A13315A-E14A-43CD-AFAD-52E8152D561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1: Initial - 1</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are characterized by random or chaotic development methods with little formality and uninformed project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rojects may be successful, but larger projects are often fail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results are marginal to po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916AE1-DD61-41CB-9BFF-B0061FBEE9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1: Initial - 2</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People CMM, level 1 organizations are deficient in training at both the technical staff and managerial leve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4E166-1FC8-4F52-B39C-77091F48AE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1: Initial - 3</a:t>
            </a: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I does not recommend any key process area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ECB3B-D6DF-42E4-B4EA-5F35C68FE8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2: Repeatable - 1</a:t>
            </a: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have introduced at least some rigor into project management and technical development tasks</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es such as formal cost estimating are noted for project management, and formal requirements gathering are often noted during development</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initial level, a higher frequency of success and a lower incidence of overruns and cancelled projects can be observ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51A5C2-E08D-4ACF-98C3-82B632007A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2: Repeatable - 2</a:t>
            </a: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People CMM, level 2 organizations have begun to provide adequate training for managers and technical staf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aware of professional growth and the need for selecting and keeping capable personne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C4B07-7A0C-404A-9CED-5447195914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of Process Definition - 1</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rocesses that can meet or support business and technical objectiv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d define the issues, models, and measures that relate to the performance of the process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rastructures (the set of methods, people, and practices) that are needed to support software activit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925BB-604D-446D-9EA4-809965352A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2: Repeatable - 3</a:t>
            </a: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manag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ject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ject tracking and oversigh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subcontract manag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quality assura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configuration manage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EC0C12-AB4B-49EC-ABD1-B88AF66D16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2: Repeatable - 4</a:t>
            </a:r>
            <a:endParaRPr b="0"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 for People CM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ns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nviron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25611D-F647-4FF6-989B-6C00DD0DC8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3: Defined - 1</a:t>
            </a: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have mastered a development process that can often lead to successful large system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and above the project management and technical approached found in Level 2 organizations, the Level 3 groups have a well-defined development process that can handle all sizes and kinds of proj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E1112F-9927-46FE-8691-D16470B390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3: Defined - 2</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People CMM, the organizations have developed skills invent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ble of selecting appropriate specialists who may be needed for critical topics such as testing, quality assurance, web mastery, and the lik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D22048-D069-4048-B206-9367629D32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3: Defined - 3</a:t>
            </a: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process focu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process definitio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engineering</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software managemen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group coordin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DA760A-74EF-466E-98F7-86527BAAF0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3: Defined - 4</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 for People CM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develop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y-based practi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force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the knowledge and the skills needed by the organiz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6393C9-96BE-4579-B516-BB707AB6B9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4: Managed - 1</a:t>
            </a: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have established a firm quantitative basis for project management and utilize both effective measurements and also effective cost and quality estima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55036-C81E-4654-B88E-BFB4D876F7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4: Managed - 2</a:t>
            </a: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People CMM, organizations are able to not only monitor their need for specialized personnel, but are actually able to explore the productivity and quality results associated from the presence of specialists in a quantitative w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le to do long-range predictions of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D60DFE-9314-4B63-A9D8-65B897E511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4: Managed - 3</a:t>
            </a: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quality manag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software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884824-FF4F-43DE-B4D9-6AE65F17D2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4: Managed - 4</a:t>
            </a:r>
            <a:endParaRPr b="0" lang="en-US" sz="4400" spc="-1" strike="noStrike">
              <a:solidFill>
                <a:srgbClr val="000000"/>
              </a:solidFill>
              <a:latin typeface="Arial"/>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 for People CM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buil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mpetenc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predict and measure the effect of specialists and teams in quantitative mann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9D13DB-CAEC-44C7-A395-8360BD0F87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of Process Definition - 2</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e software organization has the ability to execute and sustain the processe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288D80-D2CD-41A0-8EFA-0DD490387B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5: Optimizing - 1</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are assumed to have mastered the current state-of-the-art of software project management and develop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2D0818-80E2-4D2F-BF4B-C0429FF4CC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5: Optimizing - 2</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People CMM, the requirements are an extension of the Level 4 capabilities and hence different more in degree than in ki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es both coaching and rewards for innov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C18C4-4B7E-462E-90F4-6BFE1DCDC7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5: Optimizing - 3</a:t>
            </a: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preven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change manag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hange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8F5CF9-3F65-4098-AE11-A8A9C2DCD7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M Level 5: Optimizing - 4</a:t>
            </a:r>
            <a:endParaRPr b="0" lang="en-US" sz="4400" spc="-1" strike="noStrike">
              <a:solidFill>
                <a:srgbClr val="000000"/>
              </a:solidFill>
              <a:latin typeface="Arial"/>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rocess areas for People CM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ment of innov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mpetency develop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92F10F-6FAB-41F2-B0CD-D7E90EA069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38080" y="990720"/>
            <a:ext cx="76201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666880" y="228600"/>
            <a:ext cx="0" cy="64008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9880" y="458640"/>
            <a:ext cx="20541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Categories</a:t>
            </a:r>
            <a:endParaRPr b="0" lang="en-US" sz="1600" spc="-1" strike="noStrike">
              <a:solidFill>
                <a:srgbClr val="000000"/>
              </a:solidFill>
              <a:latin typeface="Times New Roman"/>
            </a:endParaRPr>
          </a:p>
        </p:txBody>
      </p:sp>
      <p:sp>
        <p:nvSpPr>
          <p:cNvPr id="259" name=""/>
          <p:cNvSpPr/>
          <p:nvPr/>
        </p:nvSpPr>
        <p:spPr>
          <a:xfrm>
            <a:off x="2897280" y="53496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260" name=""/>
          <p:cNvSpPr/>
          <p:nvPr/>
        </p:nvSpPr>
        <p:spPr>
          <a:xfrm>
            <a:off x="4802040" y="534960"/>
            <a:ext cx="2054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endParaRPr b="0" lang="en-US" sz="1800" spc="-1" strike="noStrike">
              <a:solidFill>
                <a:srgbClr val="000000"/>
              </a:solidFill>
              <a:latin typeface="Times New Roman"/>
            </a:endParaRPr>
          </a:p>
        </p:txBody>
      </p:sp>
      <p:sp>
        <p:nvSpPr>
          <p:cNvPr id="261" name=""/>
          <p:cNvSpPr/>
          <p:nvPr/>
        </p:nvSpPr>
        <p:spPr>
          <a:xfrm>
            <a:off x="6783480" y="53496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ering</a:t>
            </a:r>
            <a:endParaRPr b="0" lang="en-US" sz="1800" spc="-1" strike="noStrike">
              <a:solidFill>
                <a:srgbClr val="000000"/>
              </a:solidFill>
              <a:latin typeface="Times New Roman"/>
            </a:endParaRPr>
          </a:p>
        </p:txBody>
      </p:sp>
      <p:sp>
        <p:nvSpPr>
          <p:cNvPr id="262" name=""/>
          <p:cNvSpPr/>
          <p:nvPr/>
        </p:nvSpPr>
        <p:spPr>
          <a:xfrm>
            <a:off x="839880" y="230040"/>
            <a:ext cx="20541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s/</a:t>
            </a:r>
            <a:endParaRPr b="0" lang="en-US" sz="1600" spc="-1" strike="noStrike">
              <a:solidFill>
                <a:srgbClr val="000000"/>
              </a:solidFill>
              <a:latin typeface="Times New Roman"/>
            </a:endParaRPr>
          </a:p>
        </p:txBody>
      </p:sp>
      <p:sp>
        <p:nvSpPr>
          <p:cNvPr id="263" name=""/>
          <p:cNvSpPr/>
          <p:nvPr/>
        </p:nvSpPr>
        <p:spPr>
          <a:xfrm>
            <a:off x="1068480" y="626580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itial</a:t>
            </a:r>
            <a:endParaRPr b="0" lang="en-US" sz="1800" spc="-1" strike="noStrike">
              <a:solidFill>
                <a:srgbClr val="000000"/>
              </a:solidFill>
              <a:latin typeface="Times New Roman"/>
            </a:endParaRPr>
          </a:p>
        </p:txBody>
      </p:sp>
      <p:sp>
        <p:nvSpPr>
          <p:cNvPr id="264" name=""/>
          <p:cNvSpPr/>
          <p:nvPr/>
        </p:nvSpPr>
        <p:spPr>
          <a:xfrm>
            <a:off x="1068480" y="350676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peatable</a:t>
            </a:r>
            <a:endParaRPr b="0" lang="en-US" sz="1800" spc="-1" strike="noStrike">
              <a:solidFill>
                <a:srgbClr val="000000"/>
              </a:solidFill>
              <a:latin typeface="Times New Roman"/>
            </a:endParaRPr>
          </a:p>
        </p:txBody>
      </p:sp>
      <p:sp>
        <p:nvSpPr>
          <p:cNvPr id="265" name=""/>
          <p:cNvSpPr/>
          <p:nvPr/>
        </p:nvSpPr>
        <p:spPr>
          <a:xfrm>
            <a:off x="1068480" y="251604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fined</a:t>
            </a:r>
            <a:endParaRPr b="0" lang="en-US" sz="1800" spc="-1" strike="noStrike">
              <a:solidFill>
                <a:srgbClr val="000000"/>
              </a:solidFill>
              <a:latin typeface="Times New Roman"/>
            </a:endParaRPr>
          </a:p>
        </p:txBody>
      </p:sp>
      <p:sp>
        <p:nvSpPr>
          <p:cNvPr id="266" name=""/>
          <p:cNvSpPr/>
          <p:nvPr/>
        </p:nvSpPr>
        <p:spPr>
          <a:xfrm>
            <a:off x="1068480" y="198288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anaged</a:t>
            </a:r>
            <a:endParaRPr b="0" lang="en-US" sz="1800" spc="-1" strike="noStrike">
              <a:solidFill>
                <a:srgbClr val="000000"/>
              </a:solidFill>
              <a:latin typeface="Times New Roman"/>
            </a:endParaRPr>
          </a:p>
        </p:txBody>
      </p:sp>
      <p:sp>
        <p:nvSpPr>
          <p:cNvPr id="267" name=""/>
          <p:cNvSpPr/>
          <p:nvPr/>
        </p:nvSpPr>
        <p:spPr>
          <a:xfrm>
            <a:off x="1068480" y="1144440"/>
            <a:ext cx="2054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Optimizing</a:t>
            </a:r>
            <a:endParaRPr b="0" lang="en-US" sz="1800" spc="-1" strike="noStrike">
              <a:solidFill>
                <a:srgbClr val="000000"/>
              </a:solidFill>
              <a:latin typeface="Times New Roman"/>
            </a:endParaRPr>
          </a:p>
        </p:txBody>
      </p:sp>
      <p:sp>
        <p:nvSpPr>
          <p:cNvPr id="268" name=""/>
          <p:cNvSpPr/>
          <p:nvPr/>
        </p:nvSpPr>
        <p:spPr>
          <a:xfrm>
            <a:off x="4724280" y="228600"/>
            <a:ext cx="0" cy="640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05720" y="228600"/>
            <a:ext cx="0" cy="640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38080" y="19810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879800" y="6327720"/>
            <a:ext cx="2054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 Hoc Processes</a:t>
            </a:r>
            <a:endParaRPr b="0" lang="en-US" sz="1400" spc="-1" strike="noStrike">
              <a:solidFill>
                <a:srgbClr val="000000"/>
              </a:solidFill>
              <a:latin typeface="Times New Roman"/>
            </a:endParaRPr>
          </a:p>
        </p:txBody>
      </p:sp>
      <p:sp>
        <p:nvSpPr>
          <p:cNvPr id="272" name=""/>
          <p:cNvSpPr/>
          <p:nvPr/>
        </p:nvSpPr>
        <p:spPr>
          <a:xfrm>
            <a:off x="2744640" y="2516040"/>
            <a:ext cx="2054520" cy="84672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 Software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group Coordination</a:t>
            </a:r>
            <a:endParaRPr b="0" lang="en-US" sz="1400" spc="-1" strike="noStrike">
              <a:solidFill>
                <a:srgbClr val="000000"/>
              </a:solidFill>
              <a:latin typeface="Times New Roman"/>
            </a:endParaRPr>
          </a:p>
        </p:txBody>
      </p:sp>
      <p:sp>
        <p:nvSpPr>
          <p:cNvPr id="273" name=""/>
          <p:cNvSpPr/>
          <p:nvPr/>
        </p:nvSpPr>
        <p:spPr>
          <a:xfrm>
            <a:off x="2744640" y="3505320"/>
            <a:ext cx="2054520" cy="27914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ject Planning</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ject Tracking and Oversigh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Subcontract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Quality Assurance</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Configuration Management</a:t>
            </a:r>
            <a:endParaRPr b="0" lang="en-US" sz="1400" spc="-1" strike="noStrike">
              <a:solidFill>
                <a:srgbClr val="000000"/>
              </a:solidFill>
              <a:latin typeface="Times New Roman"/>
            </a:endParaRPr>
          </a:p>
        </p:txBody>
      </p:sp>
      <p:sp>
        <p:nvSpPr>
          <p:cNvPr id="274" name=""/>
          <p:cNvSpPr/>
          <p:nvPr/>
        </p:nvSpPr>
        <p:spPr>
          <a:xfrm>
            <a:off x="4800600" y="2440080"/>
            <a:ext cx="1749600" cy="10612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 Process Focus</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tion Process Definition</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Program</a:t>
            </a:r>
            <a:endParaRPr b="0" lang="en-US" sz="1400" spc="-1" strike="noStrike">
              <a:solidFill>
                <a:srgbClr val="000000"/>
              </a:solidFill>
              <a:latin typeface="Times New Roman"/>
            </a:endParaRPr>
          </a:p>
        </p:txBody>
      </p:sp>
      <p:sp>
        <p:nvSpPr>
          <p:cNvPr id="275" name=""/>
          <p:cNvSpPr/>
          <p:nvPr/>
        </p:nvSpPr>
        <p:spPr>
          <a:xfrm>
            <a:off x="6783480" y="2516040"/>
            <a:ext cx="1749240" cy="6656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duct Engineering</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er Reviews</a:t>
            </a:r>
            <a:endParaRPr b="0" lang="en-US" sz="1400" spc="-1" strike="noStrike">
              <a:solidFill>
                <a:srgbClr val="000000"/>
              </a:solidFill>
              <a:latin typeface="Times New Roman"/>
            </a:endParaRPr>
          </a:p>
        </p:txBody>
      </p:sp>
      <p:sp>
        <p:nvSpPr>
          <p:cNvPr id="276" name=""/>
          <p:cNvSpPr/>
          <p:nvPr/>
        </p:nvSpPr>
        <p:spPr>
          <a:xfrm>
            <a:off x="6707160" y="1982880"/>
            <a:ext cx="2054160" cy="4510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Quality Management</a:t>
            </a:r>
            <a:endParaRPr b="0" lang="en-US" sz="1400" spc="-1" strike="noStrike">
              <a:solidFill>
                <a:srgbClr val="000000"/>
              </a:solidFill>
              <a:latin typeface="Times New Roman"/>
            </a:endParaRPr>
          </a:p>
        </p:txBody>
      </p:sp>
      <p:sp>
        <p:nvSpPr>
          <p:cNvPr id="277" name=""/>
          <p:cNvSpPr/>
          <p:nvPr/>
        </p:nvSpPr>
        <p:spPr>
          <a:xfrm>
            <a:off x="2744640" y="2058840"/>
            <a:ext cx="2054520" cy="4510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 Software Management</a:t>
            </a:r>
            <a:endParaRPr b="0" lang="en-US" sz="1400" spc="-1" strike="noStrike">
              <a:solidFill>
                <a:srgbClr val="000000"/>
              </a:solidFill>
              <a:latin typeface="Times New Roman"/>
            </a:endParaRPr>
          </a:p>
        </p:txBody>
      </p:sp>
      <p:sp>
        <p:nvSpPr>
          <p:cNvPr id="278" name=""/>
          <p:cNvSpPr/>
          <p:nvPr/>
        </p:nvSpPr>
        <p:spPr>
          <a:xfrm>
            <a:off x="4802040" y="1144440"/>
            <a:ext cx="2054520" cy="84672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Change Management</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Change Management</a:t>
            </a:r>
            <a:endParaRPr b="0" lang="en-US" sz="1400" spc="-1" strike="noStrike">
              <a:solidFill>
                <a:srgbClr val="000000"/>
              </a:solidFill>
              <a:latin typeface="Times New Roman"/>
            </a:endParaRPr>
          </a:p>
        </p:txBody>
      </p:sp>
      <p:sp>
        <p:nvSpPr>
          <p:cNvPr id="279" name=""/>
          <p:cNvSpPr/>
          <p:nvPr/>
        </p:nvSpPr>
        <p:spPr>
          <a:xfrm>
            <a:off x="6783480" y="1525680"/>
            <a:ext cx="2054160" cy="27000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ct Prevention</a:t>
            </a:r>
            <a:endParaRPr b="0" lang="en-US" sz="1400" spc="-1" strike="noStrike">
              <a:solidFill>
                <a:srgbClr val="000000"/>
              </a:solidFill>
              <a:latin typeface="Times New Roman"/>
            </a:endParaRPr>
          </a:p>
        </p:txBody>
      </p:sp>
      <p:sp>
        <p:nvSpPr>
          <p:cNvPr id="280" name=""/>
          <p:cNvSpPr/>
          <p:nvPr/>
        </p:nvSpPr>
        <p:spPr>
          <a:xfrm>
            <a:off x="838080" y="24382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35053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38080" y="62485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44560" y="235080"/>
            <a:ext cx="7607160" cy="639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6A6B999-6EC6-4121-81A3-0CFA9697EA2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1 Quality</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fect potentials run from 3 to more than 15 defects per function points, but average is 5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efficiency runs from less than 70% to more than 95%, but average is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delivered defects is 0.75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hundred projects surve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66B2B8-9CF1-486D-8CA9-8BEB571F69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2 Quality</a:t>
            </a: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fect potentials run from 3 to more than 12 defects per function points, but average is 4.8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efficiency runs from less than 70% to more than 96%, but average is 87%</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delivered defects is 0.6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y (50) projects surve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E55BF7-783C-42BA-B628-335B11B29C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3 Quality</a:t>
            </a:r>
            <a:endParaRPr b="0" lang="en-US" sz="4400" spc="-1" strike="noStrike">
              <a:solidFill>
                <a:srgbClr val="000000"/>
              </a:solidFill>
              <a:latin typeface="Arial"/>
            </a:endParaRPr>
          </a:p>
        </p:txBody>
      </p:sp>
      <p:sp>
        <p:nvSpPr>
          <p:cNvPr id="2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fect potentials run from 2.5 to more than 9 defects per function points, but average is 4.3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efficiency runs from less than 75% to more than 97%, but average is 89%</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delivered defects is 0.47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ty (30) projects surve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9A851E-4AAD-4A7A-92D6-1DFD35FF03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4 Quality</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fect potentials run from 2.3 to more than 6 defects per function points, but average is 3.8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efficiency runs from less than 80% to more than 99%, but average is 94%</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delivered defects is 0.2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ne (9) projects surve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892E38-2BD2-42A5-AD02-B12CBC7FD4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5 Quality</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fect potentials run from 2 to 5 defects per function points, but average is 3.5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efficiency runs from less than 90% to more than 99%, but average is 97%</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delivered defects is 0.1 defects per function po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4) projects surve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E793C2-9B1E-48AC-9327-A0D371223D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Process Measurements  - 1</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the data that measure the performance of each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the performance of each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E01FE5-9121-4EB8-BC5F-E641BF7539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A3536B-1ECC-4B9C-A1B3-0E0941D2D0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the Software Process by William Florac and Anita Carleton, (Chapters 1 &amp; 2)</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bility Maturity Model: Guidelines for Improving the Software Process, by SEI, Pearson Education, 2002</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B5A7E-520F-498A-943F-8B37F52AC3E1}"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Process Measurements  - 2</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and use data:</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ess process stability and capability</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terpret the results of observations and analys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dict future costs and performanc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baselines and benchmark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lot trend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opportunities for improve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1059E7-7AF3-4D86-B208-5BCD808D6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of Process Control - 1</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ing a process means keeping within its normal (inherent) performance boundaries – that is, making the process behave consistent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DA34A-7555-47D2-B90E-49BCAD384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of Process Control - 2</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ing information about process performance</a:t>
            </a:r>
            <a:endParaRPr b="0" lang="en-US" sz="24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the information to identify variations in the process that are due to assignable causes</a:t>
            </a:r>
            <a:endParaRPr b="0" lang="en-US" sz="24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on</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steps to remove variation due to assignable causes from the process and to remove the results of process drift from the produc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F28E31-FD16-4C36-B605-2160C0FB8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09:14:26Z</dcterms:created>
  <dc:creator>Ghulam Ahmad Farrukh</dc:creator>
  <dc:description/>
  <dc:language>en-US</dc:language>
  <cp:lastModifiedBy>ahmadmohsin</cp:lastModifiedBy>
  <dcterms:modified xsi:type="dcterms:W3CDTF">2009-07-24T07:28:38Z</dcterms:modified>
  <cp:revision>61</cp:revision>
  <dc:subject/>
  <dc:title>Process Management and Improvement – 1 - CMM</dc:title>
</cp:coreProperties>
</file>